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BDFE-9FBC-49EF-B9CE-3D5F55AB4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6C9A-1E45-4024-A863-819D207A6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EA68-2136-4E8F-8184-DA4FA5AEE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8426-7E9D-45DF-94F2-0F2C7C6FC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4C9C2-349B-4777-BA0C-C1B0E68B1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F9A76-9F7B-4B10-8C1C-DFBB7C824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48415-9A1E-4D60-9BF5-2CCB107DA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31B04-18D5-4E1D-A641-AE43680B2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0F187-3189-4957-A4BA-5093CB482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5C570-E22E-457C-885F-0500A7FC2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00C00-3F44-4173-B93C-3ACCADD81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863E-CDF5-49FD-BBD0-1DD4727F3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4CD78-D2AA-4046-959E-7488625B0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BDAFD-250E-41D9-A138-7225137F9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00835-CC55-4761-B7FF-C885C80D7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3DBD4-0325-4ED7-AB5A-D0CEB48D0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D2E11-D1A2-44E0-A688-A9D7E05A6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78D1-535F-4380-B02E-7E74C06D2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C7B4-1C40-42BF-BDE6-3FF91B36C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0AA7-EB82-4700-B4EE-C2AFB29AB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FCC3-FE5D-4D1C-A412-E97EF8501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ED9E-AE0C-4FEC-B8B5-8A892D42C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D59E-851A-40BF-AB1F-1028FADB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9830-5905-4B43-971F-715AE06BB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C5679-E242-455F-B21A-EE756F1472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8FEC8-1DB8-4ACE-ABA4-B2DD635439B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СОГЛАСОВАННЫЕ</a:t>
            </a:r>
            <a:br>
              <a:rPr sz="5400"/>
            </a:b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 И НЕСОГЛАСОВАННЫЕ</a:t>
            </a: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 ОПРЕДЕЛЕНИЯ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7640"/>
            <a:ext cx="6400800" cy="17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98989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Arial"/>
              </a:rPr>
              <a:t>Значения несогласованных определений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9900"/>
                </a:solidFill>
                <a:latin typeface="Arial"/>
              </a:rPr>
              <a:t>Принадлежность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(лицо Кутузова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Arial"/>
              </a:rPr>
              <a:t>Отношение к коллективу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(Путиловского завода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Arial"/>
              </a:rPr>
              <a:t>Производителя действи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(скрип колес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Arial"/>
              </a:rPr>
              <a:t>Признак по его носителю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(темнота леса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Arial"/>
              </a:rPr>
              <a:t>Отношение целого к част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(воротник шинели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Несогласованные определения  связываются с определяемым словом по способу </a:t>
            </a:r>
            <a:r>
              <a:rPr b="0" lang="ru-RU" sz="4400" spc="-1" strike="noStrike" u="sng">
                <a:solidFill>
                  <a:srgbClr val="86d1ec"/>
                </a:solidFill>
                <a:uFillTx/>
                <a:latin typeface="Arial"/>
                <a:hlinkClick r:id="rId2" action="ppaction://hlinksldjump"/>
              </a:rPr>
              <a:t>управления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или </a:t>
            </a:r>
            <a:r>
              <a:rPr b="0" lang="ru-RU" sz="4400" spc="-1" strike="noStrike" u="sng">
                <a:solidFill>
                  <a:srgbClr val="86d1ec"/>
                </a:solidFill>
                <a:uFillTx/>
                <a:latin typeface="Arial"/>
                <a:hlinkClick r:id="rId3" action="ppaction://hlinksldjump"/>
              </a:rPr>
              <a:t>примыкания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Управле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Управлени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— вид связи, при котором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висимое слово употребляется в определенной форме в зависимости от лексико-грамматического значения главного слов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Примеры: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ненависть к врагу, читать книгу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Примык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Примыкани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— вид связи, при котором зависимость слова выражается лексически, порядком слов и интонацией, без применения служебных слов или морфологического изменения. Образуется наречиями, инфинитивами и деепричастиям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Примеры: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петь красиво, лежать спокойно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опросы, на которые нужно ответить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Что такое определение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аковы способы выражения определений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акие виды определений можно выделить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Чем отличаются согласованные определения от несогласованных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Что такое определение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Arial"/>
              </a:rPr>
              <a:t>Определени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о второстепенный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член  предложения, котор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меет общее  значен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знака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вечает на вопросы какой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чей? который? и относится к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дельному член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едложения, выраженном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ловом  с предметны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начение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пределение  является свободным членом предложения, т.к. оно – предложение, почти не меняет своей смысловой окраски без определени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пределение  всегда находится в прямой зависимости от определяемого слов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cc"/>
                </a:solidFill>
                <a:latin typeface="Arial"/>
              </a:rPr>
              <a:t>Определение может быть выражено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лагательным (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влажное крыльцо )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уществительным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(порыв ветра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частием (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застывающий воздух 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естоименным прилагательным (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наша крепость 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Числительным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(второй мальчик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ичным местоимением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( в его глазах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речием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(сапоги всмятку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33cc"/>
                </a:solidFill>
                <a:uFillTx/>
                <a:latin typeface="Arial"/>
              </a:rPr>
              <a:t>ПО ХАРАКТЕРУ СИНТАКСИЧЕСКОЙ СВЯЗИ ВСЕ ОПРЕДЕЛЕНИЯ ДЕЛЯТСЯ Н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ГЛАСОВАННЫ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ЕСОГЛАСОВАННЫ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Согласованные определе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гласуются с определяемым членом в форме (падеже, числе и роде в ед. ч.), выражаются прилагательными, причастиями, порядковыми числительными, местоимениями: </a:t>
            </a:r>
            <a:r>
              <a:rPr b="1" i="1" lang="ru-RU" sz="3200" spc="-1" strike="noStrike">
                <a:solidFill>
                  <a:srgbClr val="ff9900"/>
                </a:solidFill>
                <a:latin typeface="Arial"/>
              </a:rPr>
              <a:t>Большие деревья растут возле отцовского домика. В нашем классе нет отстающих учеников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Arial"/>
              </a:rPr>
              <a:t>Значения согласованных определений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Качество предмет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(безумная отвага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Признак предмет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(сельская библиотека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Принадлежность</a:t>
            </a:r>
            <a:r>
              <a:rPr b="1" i="1" lang="ru-RU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(полковое знамя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Выделительно-усилительные признаки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(каждый человек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Порядок предмета при счет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(в девятом вагоне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Результат действи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(наступившая тишина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Несогласованные определения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9900"/>
                </a:solidFill>
                <a:latin typeface="Arial"/>
              </a:rPr>
              <a:t>Не согласуются с определяемым членом в форм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9900"/>
                </a:solidFill>
                <a:latin typeface="Arial"/>
              </a:rPr>
              <a:t>Выражаются существительными в косвенных падежах, сравнительной степенью прилагательных, наречиями, инфинитивом: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Шумели листья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берёзы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. Ему нравились вечера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в доме бабушки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. Выбери ткань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с рисунком повеселее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ome</cp:lastModifiedBy>
  <dcterms:modified xsi:type="dcterms:W3CDTF">2010-05-08T17:33:31Z</dcterms:modified>
  <cp:revision>60</cp:revision>
  <dc:subject/>
  <dc:title>СОГЛАСОВАННЫЕ И НЕСОГЛАСОВАННЫЕ ОПРЕДЕЛЕНИЯ</dc:title>
</cp:coreProperties>
</file>